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9C5-D3C1-4482-AA50-FC66D0A5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ACE-058F-4BEB-B8B4-B5CF814A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CAF-A982-437F-8812-8B3F80A5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B23-2283-4F70-8D73-2662FB18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540-3C22-473B-80C5-EBBAC436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89F-5D61-426A-84D8-7B8C274D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3FF-8DEC-406A-82AC-A455D5E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DA4-1A0B-4298-8685-A34F7659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4BC-259F-40C4-B4CA-C819F692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EBF-F2F1-45DD-ABAC-079FDE9D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027-3C6A-4E4B-A7A6-861B8FFA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4B8-6A39-41E9-B54A-76372911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4D0E-4AD3-4990-8057-D26480C4B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 GLO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BALIZZAZI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1630440"/>
            <a:ext cx="4751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92360" y="1700280"/>
            <a:ext cx="3456000" cy="1079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onotype Corsiva"/>
              </a:rPr>
              <a:t>GLOB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04000">
            <a:off x="0" y="475920"/>
            <a:ext cx="3708360" cy="1511280"/>
          </a:xfrm>
          <a:prstGeom prst="rightArrow">
            <a:avLst>
              <a:gd name="adj1" fmla="val 50000"/>
              <a:gd name="adj2" fmla="val 613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GLIORAMENO MEZZI D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735400">
            <a:off x="0" y="2565000"/>
            <a:ext cx="3780000" cy="1441440"/>
          </a:xfrm>
          <a:prstGeom prst="rightArrow">
            <a:avLst>
              <a:gd name="adj1" fmla="val 50000"/>
              <a:gd name="adj2" fmla="val 65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GLIORAMENO DEI MEZZ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20000" y="981000"/>
            <a:ext cx="1942920" cy="1008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2852640"/>
            <a:ext cx="2160720" cy="72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ILI DI 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3933720"/>
            <a:ext cx="2808360" cy="935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B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3789360"/>
            <a:ext cx="2519280" cy="936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E 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95280" y="292428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2565360"/>
            <a:ext cx="863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249228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443640" y="14839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00720" y="5418000"/>
            <a:ext cx="213984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486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9:13Z</dcterms:created>
  <dc:creator>studente</dc:creator>
  <dc:description/>
  <dc:language>en-US</dc:language>
  <cp:lastModifiedBy>studente</cp:lastModifiedBy>
  <dcterms:modified xsi:type="dcterms:W3CDTF">2016-11-21T08:54:51Z</dcterms:modified>
  <cp:revision>6</cp:revision>
  <dc:subject/>
  <dc:title>Diapositiva 1</dc:title>
</cp:coreProperties>
</file>